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3CF2-1EED-4BE4-9745-07A47ACB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o talk about sex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most complex organism does not have the most chromosom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: 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: 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yotypes usually formed in this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s move centromer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s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but the nucleus =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mm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ttached to inne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493-5002-4341-8B19-E3E21EAD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D7F-B2F3-4F59-9627-682C813F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044-27EA-4B9B-B597-F68D70FA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AFF-CA5A-4E0A-BC74-B28C9319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04B-7CA7-445E-8980-EDAEAB5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FE4-D5F1-4BD6-82DD-065B15C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4A9-FDA1-4F61-B85B-9ADABDF6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123-8E70-4B1B-BF65-F0BE5B5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586-91AD-4D03-AFE1-F8A6A58A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FAA-6C6F-4F80-9543-4805843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365-D222-4FBA-97CF-C6BDFF6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F1D-25FD-4AA3-B6B5-BE72FE7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0FA-36EC-4E75-BC98-DE2FBF844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iencewithmrmilstid.com/media/chromosome.jpg&amp;imgrefurl=http://www.sciencewithmrmilstid.com/%3Fcat%3D129&amp;usg=__zT0Vb52qpiHHLk0mIhBBeb_faIc=&amp;h=700&amp;w=595&amp;sz=59&amp;hl=en&amp;start=41&amp;um=1&amp;tbnid=9_uEKMPJz59-hM:&amp;tbnh=140&amp;tbnw=119&amp;prev=/images%3Fq%3Dchromosomes%26ndsp%3D20%26hl%3Den%26sa%3DN%26start%3D40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fiveprimegenetics.com/wp-content/uploads/2008/12/chromosomes.jpg&amp;imgrefurl=http://www.fiveprimegenetics.com/&amp;usg=__U1HnaHbugSAE6xl97sPriJZJog8=&amp;h=400&amp;w=300&amp;sz=74&amp;hl=en&amp;start=78&amp;um=1&amp;tbnid=YOICEU1aVT57lM:&amp;tbnh=124&amp;tbnw=93&amp;prev=/images%3Fq%3Dchromosomes%26ndsp%3D20%26hl%3Den%26sa%3DN%26start%3D60%26um%3D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Growth and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601956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14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1752480"/>
            <a:ext cx="2124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705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s of every organism have a specific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2971800"/>
          <a:ext cx="7391160" cy="331776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hromos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 F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o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id vs. Haploi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 Cells (2n)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 sets of chromosomes…one from each parent (Example: human body ce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loid Cells (n)=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only have 1 set of chromosomes (Example: Sperm or Egg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13372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etermine the sex of an organism; either X 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somes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ll the other chromosomes in an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6576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ies of events that cells go through as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ycle, a cell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pares for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divides to form 2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aughter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ach of which then begins the cycl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) 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)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8006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s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e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r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replica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ll grow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nd m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NA i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repares for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19720" cy="3198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83800" y="559908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volve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) 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) 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) 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4) 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3400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: Pr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ling of DNA into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ar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itotic Spi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mitotic spind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tructures located in the cytoplasm calle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entr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wards opposite sides of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icrotub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tein tubes) calle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from the 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to chromosomes at the centromere and help pull chromatids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591000" cy="2590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6576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790960" cy="494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3809880" y="3505320"/>
            <a:ext cx="685800" cy="21333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8800" y="5638680"/>
            <a:ext cx="2124000" cy="916920"/>
          </a:xfrm>
          <a:prstGeom prst="rect">
            <a:avLst/>
          </a:prstGeom>
          <a:noFill/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NE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vs.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animal or plant grows, what happens to its cell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an animal get larger because each cell increases in size (grows) or because it produces more of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: Met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pindle fi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 chromosomes to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ividing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306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3: An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at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ach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o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at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ntrom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ward opposite poles of the dividin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275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4: Tel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reach poles 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pi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uncoil into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hrom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elopes and 2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ucle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79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 Cell: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Cleavage Fur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ell membrane pinches in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 Cell: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Cell P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ell wall grows between daughter cel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4191120"/>
            <a:ext cx="3733920" cy="248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4167360"/>
            <a:ext cx="38098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in Re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790960" cy="496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53080" y="53341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\..\..\Downloaded Videos\Cell Division and the Cell Cycle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352680"/>
            <a:ext cx="23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\..\..\Downloaded Videos\The Stages of Mitosis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13560" y="182736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mito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an’t cells grow for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t enough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NA!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ell increases i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keeps the same amount of DNA.  Eventually the cell will grow too much for the DNA to control all it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Trick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DNA like a library of books.  If a town (cell) is too big, people may have to wait for book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an’t Cells Grow For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 #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urface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embrane doesn’t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incre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ickly as ce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ittle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enough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x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aterial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a cell becomes too large, it divides to form 2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“daughter cells”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vision can only happen once a cell has made a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op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t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that each daughter cell can have a ful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netic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Division in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p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vi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w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two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dent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ghter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s called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inary F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657440"/>
            <a:ext cx="31528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Division in Eu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a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DNA &amp;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eads that  coil into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724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o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eads of DNA and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ereditary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uccessfully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v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ew cells to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210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Chrom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00600" y="1523880"/>
            <a:ext cx="4191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matid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dent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NA that ar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n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hromos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entromer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ea where chromatids ar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ttac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ually at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hromat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0:34:20Z</dcterms:created>
  <dc:creator>Monica</dc:creator>
  <dc:description/>
  <dc:language>en-US</dc:language>
  <cp:lastModifiedBy>Kate</cp:lastModifiedBy>
  <dcterms:modified xsi:type="dcterms:W3CDTF">2011-12-19T00:54:56Z</dcterms:modified>
  <cp:revision>14</cp:revision>
  <dc:subject/>
  <dc:title>Chapter  8 Chromosomes</dc:title>
</cp:coreProperties>
</file>